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2D1-D6D5-4ACF-8CF7-327A79D6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89FD-C9EB-484A-86DE-D667B91D2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775DC-B6A1-4987-94F4-1125A2532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40ED-F2B2-44C6-89F5-6AB846A36F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846FD-B40D-443C-8438-CEA59A1E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867E-1F6F-4796-B9D5-C7C41B95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1B029-80B2-42C0-82FB-EB46F8620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1765E-6029-4610-B267-5B0E5DDF2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6CAD5-CF23-4D21-8525-4FE67532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115BF-C8F5-4481-B52E-54C0819C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EEFEC-74FC-4F7C-B370-29446D53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785E-32FA-40DB-8027-D864019FD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A0FB-C269-4635-A345-C8E98FF6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6F43A-7251-458A-B750-AAA469F82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CB28F-C594-476D-A43C-FE0E68DF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EE9F4-45F8-44C5-9D25-C22C0D18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77592-1731-403D-97A4-849EB6A38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5728-7E40-43E5-9080-5A821620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8CC9-7A88-4DFF-BACD-9D580121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97BE-F8AC-4C1B-9C2E-2EEC23B1C7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74BEE-5DEC-424C-AC96-88658F87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8CC7-DCC9-46CC-AD5F-7177F499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D6EC-E0D3-4D7A-A49E-56087EFC5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97DC0-9C00-43BF-B74B-9B011C121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11A7B-0682-4C4E-8BFF-04F318CDE669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6C3D7-5EF4-4BB1-A1DE-E4E6A0C6FC3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Odluka o komunalnom otpad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006560" y="1407960"/>
            <a:ext cx="2028600" cy="13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985000" y="3068640"/>
            <a:ext cx="1780920" cy="1276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1042920" y="4157640"/>
            <a:ext cx="2095560" cy="1432080"/>
          </a:xfrm>
          <a:prstGeom prst="rect">
            <a:avLst/>
          </a:prstGeom>
          <a:ln w="0">
            <a:noFill/>
          </a:ln>
        </p:spPr>
      </p:pic>
      <p:sp>
        <p:nvSpPr>
          <p:cNvPr id="166" name="TekstniOkvir 4"/>
          <p:cNvSpPr/>
          <p:nvPr/>
        </p:nvSpPr>
        <p:spPr>
          <a:xfrm>
            <a:off x="3171960" y="179856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EU traži od n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kstniOkvir 5"/>
          <p:cNvSpPr/>
          <p:nvPr/>
        </p:nvSpPr>
        <p:spPr>
          <a:xfrm>
            <a:off x="3780000" y="3444840"/>
            <a:ext cx="19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R propisi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kstniOkvir 6"/>
          <p:cNvSpPr/>
          <p:nvPr/>
        </p:nvSpPr>
        <p:spPr>
          <a:xfrm>
            <a:off x="3138480" y="463392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aks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kstniOkvir 7"/>
          <p:cNvSpPr/>
          <p:nvPr/>
        </p:nvSpPr>
        <p:spPr>
          <a:xfrm>
            <a:off x="4067280" y="6093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Sonja Polonijo, rujan 20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Susta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Javna usluga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ikupljanja miješanog komunalnog i biorazgradivog otpada – </a:t>
            </a: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INDIVIDUALNO PREMA KORISNIKU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Usluga povezana s javnom uslugom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eciklažno dvorište, mobilno reciklažno dvorište, spremnici na javnim površinama i kod korisnika usluge, glomazni otp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Gradnja sust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 vrata do v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eleni otoci za reciklabilni ot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eciklažno 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obilno reciklažno 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što ne „po špranci”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24720" cy="3311280"/>
          </a:xfrm>
          <a:prstGeom prst="rect">
            <a:avLst/>
          </a:prstGeom>
          <a:ln w="0">
            <a:noFill/>
          </a:ln>
        </p:spPr>
      </p:pic>
      <p:sp>
        <p:nvSpPr>
          <p:cNvPr id="192" name="TekstniOkvir 2"/>
          <p:cNvSpPr/>
          <p:nvPr/>
        </p:nvSpPr>
        <p:spPr>
          <a:xfrm>
            <a:off x="395280" y="5516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ilj je zajednički, ali je put u bolju ekološku budućnost različ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Lokalne specifičnost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eliki grad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ijetko naseljeni kraj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urističke 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ljoprivredni kraj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„</a:t>
            </a: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Copy-Paste” NIJE rješe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„</a:t>
            </a: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Nagazne min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edisciplina korisnika usl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edostatak infrastruk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luka mora „držati vodu” i u periodu gradnje s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Još neke „nagazne min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munalno redar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risnik ne prima pošiljku s Izjav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partmanske zgrade koje se „na crno” iznajmljuj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Copy Paste?</a:t>
            </a:r>
            <a:br>
              <a:rPr sz="4400"/>
            </a:b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Imamo problem!</a:t>
            </a:r>
            <a:br>
              <a:rPr sz="4400"/>
            </a:br>
            <a:br>
              <a:rPr sz="4400"/>
            </a:b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jedno s komunalcem</a:t>
            </a:r>
            <a:br>
              <a:rPr sz="4400"/>
            </a:b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uzeti i vanjskog ako tre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konodavni okv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GO (NN 94/2013, 73/2017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redba (NN 50/2017.) stupa na snagu 1.11.201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JLS treba do 31.1.201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skladiti poslovanje davatelja usl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skladiti Odluku o komunalnom r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sklađenje poslovanja davatelja uslu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luka o načinu pružanja usluge (G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govor  (Odluka, Izjava, Cjen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java: davatelj usluge prema korisnic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jenik: odgoda primjene 30 dana od objave (suglasnost gradonačelnik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USKLAĐENOST ROKOVA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c000"/>
                </a:solidFill>
                <a:latin typeface="Arial"/>
              </a:rPr>
              <a:t>ZOGO čl.33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8137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Cijena javne uslug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»onečišćivač plaća«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ekonomski održivo poslovanje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sigurnost, redovitost i kvaliteta pružanja uslug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c000"/>
                </a:solidFill>
                <a:latin typeface="Arial"/>
              </a:rPr>
              <a:t>jedinična cijena</a:t>
            </a:r>
            <a:r>
              <a:rPr b="0" lang="hr-HR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za masu predanog otpada ili volumen spremnika otpa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red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obvezna minimalna javna usluga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 - FIKSNI dio raču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cijena za količinu predanog otpada 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- VARIJABILNI dio raču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ugovorna kazna 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- NOVOS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Obvezna minimalna javna uslu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io javne usluge koju je potrebno osigurati kako bi sustav sakupljanja komunalnog otpada mogao ispuniti svoju svrhu poštujući pritom obvezu o osiguranju primjene načela »onečišćivač plaća«, ekonomski održivo poslovanje te sigurnost, redovitost i kvalitetu pružanja javne usl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govorna kaz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c000"/>
                </a:solidFill>
                <a:latin typeface="Arial"/>
              </a:rPr>
              <a:t>Davatelj usluge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pod određenim uvjetima smije naplatiti nediscipliniranom koris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c000"/>
                </a:solidFill>
                <a:latin typeface="Arial"/>
              </a:rPr>
              <a:t>Visina ugovorne kazne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– nivo dodatnog troška za davatelj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c000"/>
                </a:solidFill>
                <a:latin typeface="Arial"/>
              </a:rPr>
              <a:t>Odluka o načinu pružanja javne uslu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vezni i fakultativni sadrž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OGO (čl.30.st.7.) i Uredba (čl.4. st. 1. i 2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Gradnja novog sustav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c000"/>
                </a:solidFill>
                <a:latin typeface="Arial"/>
              </a:rPr>
              <a:t>Rokov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idencija (koliko je pojedini korisnik predao otpada) – do 30.4.201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prihvatljiv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 dokaz izvršenja javne usluge za pojedinog korisnika uslug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do 31.10.20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4T07:50:53Z</dcterms:created>
  <dc:creator>Sonja Polonijo</dc:creator>
  <dc:description/>
  <dc:language>en-US</dc:language>
  <cp:lastModifiedBy>Sonja Polonijo</cp:lastModifiedBy>
  <dcterms:modified xsi:type="dcterms:W3CDTF">2017-08-28T06:47:50Z</dcterms:modified>
  <cp:revision>47</cp:revision>
  <dc:subject/>
  <dc:title>Prije ZOGO-a</dc:title>
</cp:coreProperties>
</file>